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wmf" ContentType="image/x-wmf"/>
  <Override PartName="/ppt/media/image16.wmf" ContentType="image/x-wmf"/>
  <Override PartName="/ppt/media/image45.jpeg" ContentType="image/jpeg"/>
  <Override PartName="/ppt/media/image14.jpeg" ContentType="image/jpeg"/>
  <Override PartName="/ppt/media/image24.png" ContentType="image/png"/>
  <Override PartName="/ppt/media/image31.gif" ContentType="image/gif"/>
  <Override PartName="/ppt/media/image1.png" ContentType="image/png"/>
  <Override PartName="/ppt/media/image2.wmf" ContentType="image/x-wmf"/>
  <Override PartName="/ppt/media/image10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34.png" ContentType="image/png"/>
  <Override PartName="/ppt/media/image44.jpeg" ContentType="image/jpeg"/>
  <Override PartName="/ppt/media/image3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6.wmf" ContentType="image/x-wmf"/>
  <Override PartName="/ppt/media/image43.png" ContentType="image/png"/>
  <Override PartName="/ppt/media/image47.jpeg" ContentType="image/jpeg"/>
  <Override PartName="/ppt/media/image12.wmf" ContentType="image/x-wmf"/>
  <Override PartName="/ppt/media/image13.wmf" ContentType="image/x-wmf"/>
  <Override PartName="/ppt/media/image29.jpeg" ContentType="image/jpeg"/>
  <Override PartName="/ppt/media/image37.png" ContentType="image/png"/>
  <Override PartName="/ppt/media/image7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7307263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44800" y="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64880" y="743040"/>
            <a:ext cx="465300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7c1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4480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9509-AE92-4249-B139-94CD2731FD44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65240" y="743040"/>
            <a:ext cx="4653000" cy="37195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se Folie ist aus meinem ersten Vortrag und soll aus historischen Gründen erneut gezeigt we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DC74-A3BF-4C30-990B-A402FFDB9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2360" y="410796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32C8-7258-4B62-A526-5317DB121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A154-659A-4C71-B440-D3DD05173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376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552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5236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376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552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40A2-53C6-4EE5-8279-C6C7EC5AF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920" y="162000"/>
            <a:ext cx="76298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791C-F51D-4FC7-93E5-C7B66383D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2360" y="410796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376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552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36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376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552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9C597-F3D3-46C4-8FF3-1FF15F9F7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0FFF7-2242-4A93-A759-FB24DBC7E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8EF1-B0F1-45F1-8190-D7110EC7E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26920" y="162000"/>
            <a:ext cx="76298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12B8-24CE-4F15-9DD0-A989E206C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150C-7765-412E-A02A-83EDFDA0B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7144-1CF3-4ED1-BC44-6E02A848D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2F32-7DE5-4DF9-99FD-905EA8FC8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7c1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51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90440">
              <a:spcBef>
                <a:spcPts val="451"/>
              </a:spcBef>
              <a:buClr>
                <a:srgbClr val="f4d1a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23880" indent="-190440">
              <a:spcBef>
                <a:spcPts val="451"/>
              </a:spcBef>
              <a:buClr>
                <a:srgbClr val="25779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05120" indent="-190440">
              <a:spcBef>
                <a:spcPts val="451"/>
              </a:spcBef>
              <a:buClr>
                <a:srgbClr val="5e99aa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905120" indent="-1904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905120" indent="-1904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27120" y="6983280"/>
            <a:ext cx="607536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baaa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abaaa9"/>
                </a:solidFill>
                <a:latin typeface="Tahoma"/>
              </a:rPr>
              <a:t>Beam Diagnostics Seminar, Nov.05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240" y="6983280"/>
            <a:ext cx="205740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baaa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6C91-5845-4F69-86BD-5875FE53237E}" type="slidenum">
              <a:rPr b="0" lang="de-DE" sz="1400" spc="-1" strike="noStrike">
                <a:solidFill>
                  <a:srgbClr val="abaaa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28000" y="6894360"/>
            <a:ext cx="647640" cy="2127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63120" y="7039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70390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700416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57796"/>
                </a:solidFill>
                <a:latin typeface="Times New Roman"/>
              </a:rPr>
              <a:t>Udo Ra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005280" y="18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63080"/>
            <a:ext cx="868680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7c1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055520"/>
            <a:ext cx="160020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6480" y="1017720"/>
            <a:ext cx="472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eam Diagnostics Seminar, Nov.05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7100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38160" algn="ctr">
              <a:spcBef>
                <a:spcPts val="349"/>
              </a:spcBef>
              <a:buClr>
                <a:srgbClr val="f4d1af"/>
              </a:buClr>
              <a:buSzPct val="9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33440" algn="ctr">
              <a:spcBef>
                <a:spcPts val="300"/>
              </a:spcBef>
              <a:buClr>
                <a:srgbClr val="257796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4" marL="1714680" algn="ctr">
              <a:spcBef>
                <a:spcPts val="249"/>
              </a:spcBef>
              <a:buClr>
                <a:srgbClr val="5e99aa"/>
              </a:buClr>
              <a:buSzPct val="80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5" marL="1714680"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6" marL="1714680"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8.wmf"/><Relationship Id="rId5" Type="http://schemas.openxmlformats.org/officeDocument/2006/relationships/image" Target="../media/image28.wmf"/><Relationship Id="rId6" Type="http://schemas.openxmlformats.org/officeDocument/2006/relationships/image" Target="../media/image9.wmf"/><Relationship Id="rId7" Type="http://schemas.openxmlformats.org/officeDocument/2006/relationships/image" Target="../media/image29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0.wm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8.wmf"/><Relationship Id="rId5" Type="http://schemas.openxmlformats.org/officeDocument/2006/relationships/image" Target="../media/image28.wmf"/><Relationship Id="rId6" Type="http://schemas.openxmlformats.org/officeDocument/2006/relationships/image" Target="../media/image9.wmf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29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0.wmf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1992240"/>
            <a:ext cx="8172360" cy="172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f57c1"/>
                </a:solidFill>
                <a:latin typeface="Tahoma"/>
              </a:rPr>
              <a:t>Das Tune-Meßverfahren für das neue POSI am SIS-18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714200" y="5238720"/>
            <a:ext cx="24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 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SI - Strahldiag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Position determination: windowing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11080" y="1073160"/>
            <a:ext cx="7521840" cy="51642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585720" y="6103800"/>
            <a:ext cx="4390560" cy="992160"/>
            <a:chOff x="585720" y="6103800"/>
            <a:chExt cx="4390560" cy="992160"/>
          </a:xfrm>
        </p:grpSpPr>
        <p:sp>
          <p:nvSpPr>
            <p:cNvPr id="170" name=""/>
            <p:cNvSpPr/>
            <p:nvPr/>
          </p:nvSpPr>
          <p:spPr>
            <a:xfrm>
              <a:off x="3104640" y="6392880"/>
              <a:ext cx="1871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 Sondenkonst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= Off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585720" y="6103800"/>
            <a:ext cx="2300040" cy="99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5720" y="6103800"/>
                      <a:ext cx="230004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C2CEC-FF81-41F9-9CD5-07CDC744FB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Position determination: windowing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11080" y="1073160"/>
            <a:ext cx="7521840" cy="5164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969840"/>
            <a:ext cx="788040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F59A-18F1-4DEA-B440-655400635D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Results: Position and Tun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85760" y="1062000"/>
            <a:ext cx="6972480" cy="583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95080" y="6546960"/>
            <a:ext cx="32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rresponding to 250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5BFD-B89C-42E8-B71C-DA7CC56D25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ome results: Beam Position and Tun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44680" y="1062000"/>
            <a:ext cx="8056440" cy="5832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995080" y="6508800"/>
            <a:ext cx="32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rresponding to 250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3B9E-C1A4-49DF-ABB1-9BEFD4EC29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Beam Excitation using Noise Generator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3656160"/>
            <a:ext cx="4572000" cy="3474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1019160"/>
            <a:ext cx="9144000" cy="2681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63400" y="4525920"/>
            <a:ext cx="34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quency spectrum of noise exc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ched to RF thus exciting direc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 sideb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57C6-8F57-4932-A28B-F7B931900D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f57c1"/>
                </a:solidFill>
                <a:latin typeface="Tahoma"/>
              </a:rPr>
              <a:t>Beam excitation w nois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07880" y="1062000"/>
            <a:ext cx="6201000" cy="5832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78160" y="2351160"/>
            <a:ext cx="203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gon18+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 -&gt; 300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out 1e10 p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448F-483C-4A8C-80DD-897A96ECB3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Beam Excitation using Noise Generator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2000" y="1061640"/>
            <a:ext cx="4243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eeping noise as low as possible: using the IPM (Ionizing Profile Monitor) in order to estimate disturbance of beam profile by noise exci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3084480" cy="4468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29040" y="816120"/>
            <a:ext cx="3929040" cy="2840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764240" y="3656160"/>
            <a:ext cx="4379760" cy="3566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96640" y="420516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ng 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ea with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file broad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81D1-29CA-429E-81FF-E323EA3704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About Signal to nois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79440" y="1077840"/>
            <a:ext cx="852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gnal of baseband tune out of digitized data with noise excitation on lower side of working area is above noise with a level of 34 to 43 dB. This means a power ratio of 50 to 141 in bet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71520" y="3290760"/>
            <a:ext cx="4522680" cy="3392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022720" y="4313160"/>
            <a:ext cx="379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s Tune signal amplitude is nearly independent of number of particles due to precise position data, this video is exemplary for tune measur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ABB4-40E2-4FA1-893F-624BA60A05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How it will be implemented in futur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932040"/>
            <a:ext cx="9144000" cy="577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AB8E-657A-4C0A-8B0B-B95B3EFC0D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Data acquisition through Libera system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55720"/>
            <a:ext cx="3782880" cy="2840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336560" y="969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36200" y="12812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680" y="1136520"/>
            <a:ext cx="1119240" cy="374760"/>
            <a:chOff x="220680" y="1136520"/>
            <a:chExt cx="1119240" cy="374760"/>
          </a:xfrm>
        </p:grpSpPr>
        <p:sp>
          <p:nvSpPr>
            <p:cNvPr id="206" name=""/>
            <p:cNvSpPr/>
            <p:nvPr/>
          </p:nvSpPr>
          <p:spPr>
            <a:xfrm>
              <a:off x="220680" y="1136520"/>
              <a:ext cx="111744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222120" y="1138320"/>
              <a:ext cx="11178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20680" y="1136520"/>
              <a:ext cx="111744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2120" y="1138320"/>
              <a:ext cx="111780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6120" y="1219320"/>
            <a:ext cx="61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ick 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0336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855800" y="1147680"/>
            <a:ext cx="1116000" cy="372960"/>
            <a:chOff x="1855800" y="1147680"/>
            <a:chExt cx="1116000" cy="372960"/>
          </a:xfrm>
        </p:grpSpPr>
        <p:sp>
          <p:nvSpPr>
            <p:cNvPr id="213" name=""/>
            <p:cNvSpPr/>
            <p:nvPr/>
          </p:nvSpPr>
          <p:spPr>
            <a:xfrm>
              <a:off x="1855800" y="1147680"/>
              <a:ext cx="1116000" cy="371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1855800" y="1147680"/>
              <a:ext cx="11160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855800" y="1147680"/>
              <a:ext cx="1116000" cy="371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55800" y="1147680"/>
              <a:ext cx="111600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064960" y="121752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56120" y="12175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470400" y="1068480"/>
            <a:ext cx="1209600" cy="557280"/>
            <a:chOff x="3470400" y="1068480"/>
            <a:chExt cx="1209600" cy="557280"/>
          </a:xfrm>
        </p:grpSpPr>
        <p:sp>
          <p:nvSpPr>
            <p:cNvPr id="220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3470400" y="1068480"/>
              <a:ext cx="1209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778920" y="1122480"/>
            <a:ext cx="65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30760" y="1122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1336680"/>
            <a:ext cx="8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30840" y="1336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094360" y="1138320"/>
            <a:ext cx="2296440" cy="383760"/>
            <a:chOff x="5094360" y="1138320"/>
            <a:chExt cx="2296440" cy="383760"/>
          </a:xfrm>
        </p:grpSpPr>
        <p:sp>
          <p:nvSpPr>
            <p:cNvPr id="229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5094360" y="1138320"/>
              <a:ext cx="229644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220720" y="1219320"/>
            <a:ext cx="21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hift to frequency doma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929720" y="1138320"/>
            <a:ext cx="1082520" cy="372960"/>
            <a:chOff x="7929720" y="1138320"/>
            <a:chExt cx="1082520" cy="372960"/>
          </a:xfrm>
        </p:grpSpPr>
        <p:sp>
          <p:nvSpPr>
            <p:cNvPr id="236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6"/>
            <a:stretch/>
          </p:blipFill>
          <p:spPr>
            <a:xfrm>
              <a:off x="7929720" y="1138320"/>
              <a:ext cx="10825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8239680" y="120816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tun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1532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65120" y="1305000"/>
            <a:ext cx="470160" cy="61920"/>
          </a:xfrm>
          <a:custGeom>
            <a:avLst/>
            <a:gdLst/>
            <a:ahLst/>
            <a:rect l="l" t="t" r="r" b="b"/>
            <a:pathLst>
              <a:path w="6050" h="800">
                <a:moveTo>
                  <a:pt x="50" y="350"/>
                </a:moveTo>
                <a:lnTo>
                  <a:pt x="5383" y="350"/>
                </a:lnTo>
                <a:cubicBezTo>
                  <a:pt x="5411" y="350"/>
                  <a:pt x="5433" y="373"/>
                  <a:pt x="5433" y="400"/>
                </a:cubicBezTo>
                <a:cubicBezTo>
                  <a:pt x="5433" y="428"/>
                  <a:pt x="5411" y="450"/>
                  <a:pt x="5383" y="450"/>
                </a:cubicBezTo>
                <a:lnTo>
                  <a:pt x="50" y="450"/>
                </a:lnTo>
                <a:cubicBezTo>
                  <a:pt x="23" y="450"/>
                  <a:pt x="0" y="428"/>
                  <a:pt x="0" y="400"/>
                </a:cubicBezTo>
                <a:cubicBezTo>
                  <a:pt x="0" y="373"/>
                  <a:pt x="23" y="350"/>
                  <a:pt x="50" y="350"/>
                </a:cubicBezTo>
                <a:close/>
                <a:moveTo>
                  <a:pt x="5250" y="0"/>
                </a:moveTo>
                <a:lnTo>
                  <a:pt x="6050" y="400"/>
                </a:lnTo>
                <a:lnTo>
                  <a:pt x="5250" y="800"/>
                </a:lnTo>
                <a:lnTo>
                  <a:pt x="525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02040" y="1316160"/>
            <a:ext cx="468360" cy="61920"/>
          </a:xfrm>
          <a:custGeom>
            <a:avLst/>
            <a:gdLst/>
            <a:ahLst/>
            <a:rect l="l" t="t" r="r" b="b"/>
            <a:pathLst>
              <a:path w="3025" h="400">
                <a:moveTo>
                  <a:pt x="25" y="175"/>
                </a:moveTo>
                <a:lnTo>
                  <a:pt x="2691" y="175"/>
                </a:lnTo>
                <a:cubicBezTo>
                  <a:pt x="2705" y="175"/>
                  <a:pt x="2716" y="186"/>
                  <a:pt x="2716" y="200"/>
                </a:cubicBezTo>
                <a:cubicBezTo>
                  <a:pt x="2716" y="214"/>
                  <a:pt x="2705" y="225"/>
                  <a:pt x="2691" y="225"/>
                </a:cubicBezTo>
                <a:lnTo>
                  <a:pt x="25" y="225"/>
                </a:lnTo>
                <a:cubicBezTo>
                  <a:pt x="11" y="225"/>
                  <a:pt x="0" y="214"/>
                  <a:pt x="0" y="200"/>
                </a:cubicBezTo>
                <a:cubicBezTo>
                  <a:pt x="0" y="186"/>
                  <a:pt x="11" y="175"/>
                  <a:pt x="25" y="175"/>
                </a:cubicBezTo>
                <a:close/>
                <a:moveTo>
                  <a:pt x="2625" y="0"/>
                </a:moveTo>
                <a:lnTo>
                  <a:pt x="3025" y="200"/>
                </a:lnTo>
                <a:lnTo>
                  <a:pt x="2625" y="400"/>
                </a:lnTo>
                <a:lnTo>
                  <a:pt x="262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10240" y="1305000"/>
            <a:ext cx="374400" cy="61920"/>
          </a:xfrm>
          <a:custGeom>
            <a:avLst/>
            <a:gdLst/>
            <a:ahLst/>
            <a:rect l="l" t="t" r="r" b="b"/>
            <a:pathLst>
              <a:path w="2425" h="400">
                <a:moveTo>
                  <a:pt x="25" y="175"/>
                </a:moveTo>
                <a:lnTo>
                  <a:pt x="2091" y="175"/>
                </a:lnTo>
                <a:cubicBezTo>
                  <a:pt x="2105" y="175"/>
                  <a:pt x="2116" y="186"/>
                  <a:pt x="2116" y="200"/>
                </a:cubicBezTo>
                <a:cubicBezTo>
                  <a:pt x="2116" y="214"/>
                  <a:pt x="2105" y="225"/>
                  <a:pt x="2091" y="225"/>
                </a:cubicBezTo>
                <a:lnTo>
                  <a:pt x="25" y="225"/>
                </a:lnTo>
                <a:cubicBezTo>
                  <a:pt x="11" y="225"/>
                  <a:pt x="0" y="214"/>
                  <a:pt x="0" y="200"/>
                </a:cubicBezTo>
                <a:cubicBezTo>
                  <a:pt x="0" y="186"/>
                  <a:pt x="11" y="175"/>
                  <a:pt x="25" y="175"/>
                </a:cubicBezTo>
                <a:close/>
                <a:moveTo>
                  <a:pt x="2025" y="0"/>
                </a:moveTo>
                <a:lnTo>
                  <a:pt x="2425" y="200"/>
                </a:lnTo>
                <a:lnTo>
                  <a:pt x="2025" y="400"/>
                </a:lnTo>
                <a:lnTo>
                  <a:pt x="202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1120" y="1316160"/>
            <a:ext cx="468360" cy="61920"/>
          </a:xfrm>
          <a:custGeom>
            <a:avLst/>
            <a:gdLst/>
            <a:ahLst/>
            <a:rect l="l" t="t" r="r" b="b"/>
            <a:pathLst>
              <a:path w="1512" h="200">
                <a:moveTo>
                  <a:pt x="12" y="88"/>
                </a:moveTo>
                <a:lnTo>
                  <a:pt x="1345" y="88"/>
                </a:lnTo>
                <a:cubicBezTo>
                  <a:pt x="1352" y="88"/>
                  <a:pt x="1358" y="93"/>
                  <a:pt x="1358" y="100"/>
                </a:cubicBezTo>
                <a:cubicBezTo>
                  <a:pt x="1358" y="107"/>
                  <a:pt x="1352" y="113"/>
                  <a:pt x="1345" y="113"/>
                </a:cubicBezTo>
                <a:lnTo>
                  <a:pt x="12" y="113"/>
                </a:lnTo>
                <a:cubicBezTo>
                  <a:pt x="5" y="113"/>
                  <a:pt x="0" y="107"/>
                  <a:pt x="0" y="100"/>
                </a:cubicBezTo>
                <a:cubicBezTo>
                  <a:pt x="0" y="93"/>
                  <a:pt x="5" y="88"/>
                  <a:pt x="12" y="88"/>
                </a:cubicBezTo>
                <a:close/>
                <a:moveTo>
                  <a:pt x="1312" y="0"/>
                </a:moveTo>
                <a:lnTo>
                  <a:pt x="1512" y="100"/>
                </a:lnTo>
                <a:lnTo>
                  <a:pt x="1312" y="200"/>
                </a:lnTo>
                <a:lnTo>
                  <a:pt x="13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359320" y="1778040"/>
            <a:ext cx="3784680" cy="284004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0" y="1735200"/>
            <a:ext cx="4390560" cy="992160"/>
            <a:chOff x="0" y="1735200"/>
            <a:chExt cx="4390560" cy="992160"/>
          </a:xfrm>
        </p:grpSpPr>
        <p:sp>
          <p:nvSpPr>
            <p:cNvPr id="248" name=""/>
            <p:cNvSpPr/>
            <p:nvPr/>
          </p:nvSpPr>
          <p:spPr>
            <a:xfrm>
              <a:off x="2518920" y="2024280"/>
              <a:ext cx="1871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 Sondenkonst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= Off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"/>
            <p:cNvGraphicFramePr/>
            <p:nvPr/>
          </p:nvGraphicFramePr>
          <p:xfrm>
            <a:off x="0" y="1735200"/>
            <a:ext cx="2300040" cy="992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0" y="1735200"/>
                      <a:ext cx="230004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1" name=""/>
          <p:cNvGraphicFramePr/>
          <p:nvPr/>
        </p:nvGraphicFramePr>
        <p:xfrm>
          <a:off x="484200" y="2940120"/>
          <a:ext cx="2952720" cy="749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4200" y="2940120"/>
                    <a:ext cx="2952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7437600" y="1422360"/>
            <a:ext cx="1706400" cy="175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FB26-ADD9-4C8F-8C0A-B5073EE463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7c1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77720" y="1195560"/>
            <a:ext cx="8064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ief introduction to SIS-18 accelerator at GSI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ibera position data system for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ystem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ypical position and tune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quired beam ex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e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pace charge eff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sing RF for 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une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mmary and outl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1763-7500-4033-8529-A81EC47D78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7c1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77720" y="1195560"/>
            <a:ext cx="8064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ief introduction to SIS-18 accelerator at GSI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ibera position data system for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ystem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ypical position and tune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quired beam ex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e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pace charge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sing RF for 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une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mmary and outl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DC05-5A96-46E0-8BE6-6341314AC9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pace charge effects: coherent motion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2000" y="1061640"/>
            <a:ext cx="889164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une frequency is shifted due to self-fields of particles, depending on the amount of particles. Space charge introduces an additional acceleration force to the individual particle mo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he collective betatron motion is influenced by space charge, as it acts on the beam with well determined phase. This leads to frequency shi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Coherent motion changes absolute value of tu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coherent motion changes width of observed frequ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03320" y="3441600"/>
            <a:ext cx="3138480" cy="606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05040" y="4146480"/>
            <a:ext cx="5019480" cy="647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736640" y="4984920"/>
            <a:ext cx="3390840" cy="20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5783-E8B5-4421-BB6F-C061592D8C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pace charge effects: coherent motion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973080"/>
            <a:ext cx="4522680" cy="355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22680" y="963720"/>
            <a:ext cx="4621320" cy="3557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0" y="4468680"/>
            <a:ext cx="3365640" cy="28400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488840" y="4734000"/>
            <a:ext cx="465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ce charge coherent tune shift on vertical tu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ne is shifted by up to 12 mq to lower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22680" y="5564160"/>
            <a:ext cx="455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observable effect on horizontal t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maybe due to less sensitivity of pickup in horizontal plane and no possibility to excite be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55CE-03FB-455B-8995-2958C3B0FE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Position determination: windowing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2000" y="1061640"/>
            <a:ext cx="4243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hy not taking the RF? It is bunch-synchronuos, free-to-use and matched to the width of every bun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2606760"/>
            <a:ext cx="4572000" cy="3487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39080" y="20257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Or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D4F9-403F-400F-B626-A5FDAA9A78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Position determination: windowing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984240"/>
            <a:ext cx="4572000" cy="3044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572000" y="1012680"/>
            <a:ext cx="4572000" cy="3005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754360" y="4203720"/>
            <a:ext cx="3633840" cy="2840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595920" y="4352760"/>
            <a:ext cx="2459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us RF cannot be use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umably due to 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smatch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gating of data has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 done on data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C65E-4154-4820-9CAC-A7BCB08326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2000" y="1062000"/>
            <a:ext cx="889164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t has been shown, that position and tune is measured stable for all types of ions and different number of particles with a resolution better than 0.1mm and at least 1mq for position and tune respectiv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ata is ready to run onl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hysical observations are possible thanks to a high resolution measurement (e.g. space charge, quadrupol oscillations, influence of chromaticity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Next step is to implement this to an automatic correction system based on obtained position and tune data (Rahu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25520" y="2373480"/>
            <a:ext cx="6581880" cy="4935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66320" y="5006880"/>
            <a:ext cx="183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ank you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our at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CE38-0868-44DA-BD98-649F79E68A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E913-1AD0-4E7C-A800-F7BF994369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965160" y="888840"/>
            <a:ext cx="7188120" cy="589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9D7D-89B2-44EF-95BD-8788880AD0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Data acquisition through Libera system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755720"/>
            <a:ext cx="3782880" cy="2840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336560" y="969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36200" y="12812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0680" y="1136520"/>
            <a:ext cx="1119240" cy="374760"/>
            <a:chOff x="220680" y="1136520"/>
            <a:chExt cx="1119240" cy="374760"/>
          </a:xfrm>
        </p:grpSpPr>
        <p:sp>
          <p:nvSpPr>
            <p:cNvPr id="290" name=""/>
            <p:cNvSpPr/>
            <p:nvPr/>
          </p:nvSpPr>
          <p:spPr>
            <a:xfrm>
              <a:off x="220680" y="1136520"/>
              <a:ext cx="111744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222120" y="1138320"/>
              <a:ext cx="11178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20680" y="1136520"/>
              <a:ext cx="111744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2120" y="1138320"/>
              <a:ext cx="111780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56120" y="1219320"/>
            <a:ext cx="61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ick 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0336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55800" y="1147680"/>
            <a:ext cx="1116000" cy="372960"/>
            <a:chOff x="1855800" y="1147680"/>
            <a:chExt cx="1116000" cy="372960"/>
          </a:xfrm>
        </p:grpSpPr>
        <p:sp>
          <p:nvSpPr>
            <p:cNvPr id="297" name=""/>
            <p:cNvSpPr/>
            <p:nvPr/>
          </p:nvSpPr>
          <p:spPr>
            <a:xfrm>
              <a:off x="1855800" y="1147680"/>
              <a:ext cx="1116000" cy="371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3"/>
            <a:stretch/>
          </p:blipFill>
          <p:spPr>
            <a:xfrm>
              <a:off x="1855800" y="1147680"/>
              <a:ext cx="11160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855800" y="1147680"/>
              <a:ext cx="1116000" cy="371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55800" y="1147680"/>
              <a:ext cx="111600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064960" y="121752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56120" y="12175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470400" y="1068480"/>
            <a:ext cx="1209600" cy="557280"/>
            <a:chOff x="3470400" y="1068480"/>
            <a:chExt cx="1209600" cy="557280"/>
          </a:xfrm>
        </p:grpSpPr>
        <p:sp>
          <p:nvSpPr>
            <p:cNvPr id="304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3470400" y="1068480"/>
              <a:ext cx="1209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778920" y="1122480"/>
            <a:ext cx="65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30760" y="1122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57600" y="1336680"/>
            <a:ext cx="8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30840" y="1336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94360" y="1138320"/>
            <a:ext cx="2296440" cy="383760"/>
            <a:chOff x="5094360" y="1138320"/>
            <a:chExt cx="2296440" cy="383760"/>
          </a:xfrm>
        </p:grpSpPr>
        <p:sp>
          <p:nvSpPr>
            <p:cNvPr id="313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5"/>
            <a:stretch/>
          </p:blipFill>
          <p:spPr>
            <a:xfrm>
              <a:off x="5094360" y="1138320"/>
              <a:ext cx="229644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220720" y="1219320"/>
            <a:ext cx="21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hift to frequency doma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8328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929720" y="1138320"/>
            <a:ext cx="1082520" cy="372960"/>
            <a:chOff x="7929720" y="1138320"/>
            <a:chExt cx="1082520" cy="372960"/>
          </a:xfrm>
        </p:grpSpPr>
        <p:sp>
          <p:nvSpPr>
            <p:cNvPr id="320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6"/>
            <a:stretch/>
          </p:blipFill>
          <p:spPr>
            <a:xfrm>
              <a:off x="7929720" y="1138320"/>
              <a:ext cx="10825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239680" y="120816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tun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1532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65120" y="1305000"/>
            <a:ext cx="470160" cy="61920"/>
          </a:xfrm>
          <a:custGeom>
            <a:avLst/>
            <a:gdLst/>
            <a:ahLst/>
            <a:rect l="l" t="t" r="r" b="b"/>
            <a:pathLst>
              <a:path w="6050" h="800">
                <a:moveTo>
                  <a:pt x="50" y="350"/>
                </a:moveTo>
                <a:lnTo>
                  <a:pt x="5383" y="350"/>
                </a:lnTo>
                <a:cubicBezTo>
                  <a:pt x="5411" y="350"/>
                  <a:pt x="5433" y="373"/>
                  <a:pt x="5433" y="400"/>
                </a:cubicBezTo>
                <a:cubicBezTo>
                  <a:pt x="5433" y="428"/>
                  <a:pt x="5411" y="450"/>
                  <a:pt x="5383" y="450"/>
                </a:cubicBezTo>
                <a:lnTo>
                  <a:pt x="50" y="450"/>
                </a:lnTo>
                <a:cubicBezTo>
                  <a:pt x="23" y="450"/>
                  <a:pt x="0" y="428"/>
                  <a:pt x="0" y="400"/>
                </a:cubicBezTo>
                <a:cubicBezTo>
                  <a:pt x="0" y="373"/>
                  <a:pt x="23" y="350"/>
                  <a:pt x="50" y="350"/>
                </a:cubicBezTo>
                <a:close/>
                <a:moveTo>
                  <a:pt x="5250" y="0"/>
                </a:moveTo>
                <a:lnTo>
                  <a:pt x="6050" y="400"/>
                </a:lnTo>
                <a:lnTo>
                  <a:pt x="5250" y="800"/>
                </a:lnTo>
                <a:lnTo>
                  <a:pt x="525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02040" y="1316160"/>
            <a:ext cx="468360" cy="61920"/>
          </a:xfrm>
          <a:custGeom>
            <a:avLst/>
            <a:gdLst/>
            <a:ahLst/>
            <a:rect l="l" t="t" r="r" b="b"/>
            <a:pathLst>
              <a:path w="3025" h="400">
                <a:moveTo>
                  <a:pt x="25" y="175"/>
                </a:moveTo>
                <a:lnTo>
                  <a:pt x="2691" y="175"/>
                </a:lnTo>
                <a:cubicBezTo>
                  <a:pt x="2705" y="175"/>
                  <a:pt x="2716" y="186"/>
                  <a:pt x="2716" y="200"/>
                </a:cubicBezTo>
                <a:cubicBezTo>
                  <a:pt x="2716" y="214"/>
                  <a:pt x="2705" y="225"/>
                  <a:pt x="2691" y="225"/>
                </a:cubicBezTo>
                <a:lnTo>
                  <a:pt x="25" y="225"/>
                </a:lnTo>
                <a:cubicBezTo>
                  <a:pt x="11" y="225"/>
                  <a:pt x="0" y="214"/>
                  <a:pt x="0" y="200"/>
                </a:cubicBezTo>
                <a:cubicBezTo>
                  <a:pt x="0" y="186"/>
                  <a:pt x="11" y="175"/>
                  <a:pt x="25" y="175"/>
                </a:cubicBezTo>
                <a:close/>
                <a:moveTo>
                  <a:pt x="2625" y="0"/>
                </a:moveTo>
                <a:lnTo>
                  <a:pt x="3025" y="200"/>
                </a:lnTo>
                <a:lnTo>
                  <a:pt x="2625" y="400"/>
                </a:lnTo>
                <a:lnTo>
                  <a:pt x="262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10240" y="1305000"/>
            <a:ext cx="374400" cy="61920"/>
          </a:xfrm>
          <a:custGeom>
            <a:avLst/>
            <a:gdLst/>
            <a:ahLst/>
            <a:rect l="l" t="t" r="r" b="b"/>
            <a:pathLst>
              <a:path w="2425" h="400">
                <a:moveTo>
                  <a:pt x="25" y="175"/>
                </a:moveTo>
                <a:lnTo>
                  <a:pt x="2091" y="175"/>
                </a:lnTo>
                <a:cubicBezTo>
                  <a:pt x="2105" y="175"/>
                  <a:pt x="2116" y="186"/>
                  <a:pt x="2116" y="200"/>
                </a:cubicBezTo>
                <a:cubicBezTo>
                  <a:pt x="2116" y="214"/>
                  <a:pt x="2105" y="225"/>
                  <a:pt x="2091" y="225"/>
                </a:cubicBezTo>
                <a:lnTo>
                  <a:pt x="25" y="225"/>
                </a:lnTo>
                <a:cubicBezTo>
                  <a:pt x="11" y="225"/>
                  <a:pt x="0" y="214"/>
                  <a:pt x="0" y="200"/>
                </a:cubicBezTo>
                <a:cubicBezTo>
                  <a:pt x="0" y="186"/>
                  <a:pt x="11" y="175"/>
                  <a:pt x="25" y="175"/>
                </a:cubicBezTo>
                <a:close/>
                <a:moveTo>
                  <a:pt x="2025" y="0"/>
                </a:moveTo>
                <a:lnTo>
                  <a:pt x="2425" y="200"/>
                </a:lnTo>
                <a:lnTo>
                  <a:pt x="2025" y="400"/>
                </a:lnTo>
                <a:lnTo>
                  <a:pt x="202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31120" y="1316160"/>
            <a:ext cx="468360" cy="61920"/>
          </a:xfrm>
          <a:custGeom>
            <a:avLst/>
            <a:gdLst/>
            <a:ahLst/>
            <a:rect l="l" t="t" r="r" b="b"/>
            <a:pathLst>
              <a:path w="1512" h="200">
                <a:moveTo>
                  <a:pt x="12" y="88"/>
                </a:moveTo>
                <a:lnTo>
                  <a:pt x="1345" y="88"/>
                </a:lnTo>
                <a:cubicBezTo>
                  <a:pt x="1352" y="88"/>
                  <a:pt x="1358" y="93"/>
                  <a:pt x="1358" y="100"/>
                </a:cubicBezTo>
                <a:cubicBezTo>
                  <a:pt x="1358" y="107"/>
                  <a:pt x="1352" y="113"/>
                  <a:pt x="1345" y="113"/>
                </a:cubicBezTo>
                <a:lnTo>
                  <a:pt x="12" y="113"/>
                </a:lnTo>
                <a:cubicBezTo>
                  <a:pt x="5" y="113"/>
                  <a:pt x="0" y="107"/>
                  <a:pt x="0" y="100"/>
                </a:cubicBezTo>
                <a:cubicBezTo>
                  <a:pt x="0" y="93"/>
                  <a:pt x="5" y="88"/>
                  <a:pt x="12" y="88"/>
                </a:cubicBezTo>
                <a:close/>
                <a:moveTo>
                  <a:pt x="1312" y="0"/>
                </a:moveTo>
                <a:lnTo>
                  <a:pt x="1512" y="100"/>
                </a:lnTo>
                <a:lnTo>
                  <a:pt x="1312" y="200"/>
                </a:lnTo>
                <a:lnTo>
                  <a:pt x="13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0" y="4268880"/>
            <a:ext cx="4652640" cy="2966760"/>
            <a:chOff x="0" y="4268880"/>
            <a:chExt cx="4652640" cy="2966760"/>
          </a:xfrm>
        </p:grpSpPr>
        <p:pic>
          <p:nvPicPr>
            <p:cNvPr id="331" name="" descr=""/>
            <p:cNvPicPr/>
            <p:nvPr/>
          </p:nvPicPr>
          <p:blipFill>
            <a:blip r:embed="rId7"/>
            <a:stretch/>
          </p:blipFill>
          <p:spPr>
            <a:xfrm>
              <a:off x="168120" y="4800240"/>
              <a:ext cx="448452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136240" y="6991920"/>
              <a:ext cx="6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200000">
              <a:off x="-46080" y="5449320"/>
              <a:ext cx="335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20800" y="4268880"/>
              <a:ext cx="1844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8"/>
          <a:stretch/>
        </p:blipFill>
        <p:spPr>
          <a:xfrm>
            <a:off x="4438800" y="4773600"/>
            <a:ext cx="4705200" cy="2192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9"/>
          <a:stretch/>
        </p:blipFill>
        <p:spPr>
          <a:xfrm>
            <a:off x="5359320" y="1778040"/>
            <a:ext cx="3784680" cy="284004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0" y="1735200"/>
            <a:ext cx="4390560" cy="992160"/>
            <a:chOff x="0" y="1735200"/>
            <a:chExt cx="4390560" cy="992160"/>
          </a:xfrm>
        </p:grpSpPr>
        <p:sp>
          <p:nvSpPr>
            <p:cNvPr id="338" name=""/>
            <p:cNvSpPr/>
            <p:nvPr/>
          </p:nvSpPr>
          <p:spPr>
            <a:xfrm>
              <a:off x="2518920" y="2024280"/>
              <a:ext cx="1871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 Sondenkonst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= Off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0" y="1735200"/>
            <a:ext cx="2300040" cy="992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0" y="1735200"/>
                      <a:ext cx="230004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1" name=""/>
          <p:cNvGraphicFramePr/>
          <p:nvPr/>
        </p:nvGraphicFramePr>
        <p:xfrm>
          <a:off x="484200" y="2940120"/>
          <a:ext cx="2952720" cy="749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4200" y="2940120"/>
                    <a:ext cx="2952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7C64-304A-468D-A975-6F1CD703AC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ome Inputs for the tune calculation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932040"/>
            <a:ext cx="4741920" cy="3489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348080" y="960480"/>
            <a:ext cx="4795920" cy="34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8465-ADA3-4C69-9E23-5FA29DA19C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IS-18 synchrotron at GSI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5808600" cy="5043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12680" y="1525680"/>
            <a:ext cx="4094280" cy="420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6520" y="960480"/>
            <a:ext cx="3644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parameters of SIS-1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umfere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6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j. 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ran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MeV → 2 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.R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 → 5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. harmon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 (no. of bunch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nching fa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mp dur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1.5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 tune h/v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19   3.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 range (Z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→ 92 (p to 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be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 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¹¹ U 28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x 10¹³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3252-8F01-4074-8611-5204DCC89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7c1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77720" y="1195560"/>
            <a:ext cx="8064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ief introduction to accelerators at GSI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ibera position data system for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m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ypical position and tun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quired excitation level and influence on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ne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mmary and outl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FA48-10F9-45A7-B745-05E6CED976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IS-18 synchrotron at GSI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049400" y="1496880"/>
            <a:ext cx="4094280" cy="420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074600"/>
            <a:ext cx="5796000" cy="5032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66520" y="960480"/>
            <a:ext cx="3644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parameters of SIS-1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umfere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6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j. 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ran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MeV → 2 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.R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 → 5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. harmon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 (no. of bunch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nching fa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mp dur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1.5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 tune h/v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19   3.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 range (Z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→ 92 (p to 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be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 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¹¹ U 28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x 10¹³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4400" y="3656160"/>
            <a:ext cx="4245120" cy="2166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14400" y="1581120"/>
            <a:ext cx="4245120" cy="2075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876320" y="636588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 span each 2.4 µ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36160" y="1892160"/>
            <a:ext cx="205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6 ms after in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 0.8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99360" y="4068720"/>
            <a:ext cx="211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73 ms after in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 4.2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0EA8-1979-4596-85D2-A03486BCA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7c1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ecessity of measurement system arises due to upgrade of existing accelerator SIS-18 for higher beam intensities and/for future accelerator(s) in FAIR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irst of all: Single Bunch Position Measurement with a resolution better than 0.1m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aseBand – q measurement with bright signal intensity in order to use minimal or even no beam exci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ingle bunch sepa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ture: (PLL) tune trac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ue to the BPM upgrade process tune can be extracted out of high resolution position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A933-8888-4E96-9C31-7514C6C9C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7c1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77720" y="1195560"/>
            <a:ext cx="8064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ief introduction to SIS-18 accelerator at GSI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ibera position data system for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ystem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ypical position and tune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quired beam ex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e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pace charge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sing RF for 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une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mmary and outl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DD11-FF7D-4224-BC49-1A20D51DB0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7c1"/>
                </a:solidFill>
                <a:latin typeface="Tahoma"/>
              </a:rPr>
              <a:t>What is Libera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2000" y="1061640"/>
            <a:ext cx="4243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mentation Technology (I-Tech) – Libera is an integrated setup using a high resolution ADC for onboard data processing on a FP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actually is one BPM per Libera: 2 channels horizontally and 2 channels vertical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will be processed online delivering beam position data in packets to CCCP (presently under hard progres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positions and look at periodicities: Frequency spectr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651040"/>
            <a:ext cx="4244760" cy="2652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952560" y="4594320"/>
            <a:ext cx="6942960" cy="2245680"/>
            <a:chOff x="952560" y="4594320"/>
            <a:chExt cx="6942960" cy="2245680"/>
          </a:xfrm>
        </p:grpSpPr>
        <p:sp>
          <p:nvSpPr>
            <p:cNvPr id="122" name=""/>
            <p:cNvSpPr/>
            <p:nvPr/>
          </p:nvSpPr>
          <p:spPr>
            <a:xfrm>
              <a:off x="2931480" y="499824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mplif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488480" y="4832280"/>
              <a:ext cx="1704600" cy="1725120"/>
              <a:chOff x="4488480" y="4832280"/>
              <a:chExt cx="1704600" cy="17251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88480" y="4832280"/>
                <a:ext cx="1704600" cy="172512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88480" y="4832280"/>
                <a:ext cx="1704600" cy="172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4488480" y="4832280"/>
                <a:ext cx="1704600" cy="172512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88480" y="4832280"/>
                <a:ext cx="1704600" cy="1725120"/>
              </a:xfrm>
              <a:prstGeom prst="rect">
                <a:avLst/>
              </a:prstGeom>
              <a:noFill/>
              <a:ln cap="rnd" w="52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719600" y="5115240"/>
              <a:ext cx="1221120" cy="11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osition evalu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755040" y="5200920"/>
              <a:ext cx="1140480" cy="1057320"/>
              <a:chOff x="6755040" y="5200920"/>
              <a:chExt cx="1140480" cy="105732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6755040" y="5200920"/>
                <a:ext cx="1140480" cy="105732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6755040" y="5200920"/>
                <a:ext cx="1140480" cy="10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flipH="1">
                <a:off x="6755040" y="5200920"/>
                <a:ext cx="1140480" cy="105732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755040" y="5200920"/>
                <a:ext cx="1140480" cy="1057320"/>
              </a:xfrm>
              <a:prstGeom prst="rect">
                <a:avLst/>
              </a:prstGeom>
              <a:noFill/>
              <a:ln cap="rnd" w="52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6921000" y="5375880"/>
              <a:ext cx="88128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Computer in control roo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2844360" y="4594320"/>
              <a:ext cx="1073880" cy="1073520"/>
            </a:xfrm>
            <a:prstGeom prst="flowChartExtra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15400" y="5733000"/>
              <a:ext cx="51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07800" y="5129640"/>
              <a:ext cx="728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9640" y="5129640"/>
              <a:ext cx="513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31480" y="617220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mplif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2845440" y="5767200"/>
              <a:ext cx="1072080" cy="1073520"/>
            </a:xfrm>
            <a:prstGeom prst="flowChartExtra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7800" y="6302880"/>
              <a:ext cx="728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9640" y="6302880"/>
              <a:ext cx="513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952560" y="5117400"/>
              <a:ext cx="1586160" cy="1208160"/>
              <a:chOff x="952560" y="5117400"/>
              <a:chExt cx="1586160" cy="1208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952560" y="5117400"/>
                <a:ext cx="1586160" cy="1208160"/>
                <a:chOff x="952560" y="5117400"/>
                <a:chExt cx="1586160" cy="12081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952560" y="5535720"/>
                  <a:ext cx="612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pick up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1695600" y="5117400"/>
                  <a:ext cx="843120" cy="1208160"/>
                  <a:chOff x="1695600" y="5117400"/>
                  <a:chExt cx="843120" cy="12081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695600" y="5299200"/>
                    <a:ext cx="843120" cy="8434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1981080" y="5117400"/>
                    <a:ext cx="271800" cy="409320"/>
                    <a:chOff x="1981080" y="5117400"/>
                    <a:chExt cx="271800" cy="40932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116800" y="5117400"/>
                      <a:ext cx="0" cy="4093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1981080" y="5515560"/>
                      <a:ext cx="271800" cy="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981080" y="5915880"/>
                    <a:ext cx="271800" cy="409680"/>
                    <a:chOff x="1981080" y="5915880"/>
                    <a:chExt cx="271800" cy="40968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flipV="1">
                      <a:off x="2116800" y="5915880"/>
                      <a:ext cx="0" cy="4096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981080" y="5927040"/>
                      <a:ext cx="271800" cy="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4" name=""/>
              <p:cNvSpPr/>
              <p:nvPr/>
            </p:nvSpPr>
            <p:spPr>
              <a:xfrm>
                <a:off x="2027520" y="5686920"/>
                <a:ext cx="123120" cy="12312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 flipH="1">
            <a:off x="5413320" y="3886200"/>
            <a:ext cx="550800" cy="81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76120" y="1465200"/>
            <a:ext cx="3263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channel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5 MSa / s per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bit resolution (11 bit effectiv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 Mb onboar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12D5-633A-425C-8E8C-B8F25FC8B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What is tun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0560" y="868320"/>
            <a:ext cx="4546440" cy="3597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906480"/>
            <a:ext cx="4245120" cy="2257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01520" y="3971880"/>
            <a:ext cx="72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hine intrinsic value: characteristic frequency of the Magnet Lat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iven by the strength of the quadrupole magn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une should always have a fractional part because of reson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fractional part can be measured only! (due to undersamp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n be excited directly for measuring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E809-F137-419F-8615-90A74683FB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7c1"/>
                </a:solidFill>
                <a:latin typeface="Tahoma"/>
              </a:rPr>
              <a:t>Motivation for digital measuring method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2360" y="927000"/>
            <a:ext cx="864072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point per integrated bunc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&gt; shift of all tune frequencies to baseband due to bunch-wise “sampling rat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digital method bunching factor, baseline shift and frequency range is no problem due to digital data trea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eraging noise power (thermal noise and digitization noise) by factor of 500 thanks to integration of bunch data (Frequency range 50 MHz -&gt; 100-500 kH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is alone means increase in S/N of position data by 27 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nch tracing and Bunch-wise tune separation by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is needed for position calcul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ing data stream for bunch integ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 restoring (due to AC coupl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mathematic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41360" y="5548320"/>
            <a:ext cx="4391280" cy="992160"/>
            <a:chOff x="1341360" y="5548320"/>
            <a:chExt cx="4391280" cy="992160"/>
          </a:xfrm>
        </p:grpSpPr>
        <p:sp>
          <p:nvSpPr>
            <p:cNvPr id="164" name=""/>
            <p:cNvSpPr/>
            <p:nvPr/>
          </p:nvSpPr>
          <p:spPr>
            <a:xfrm>
              <a:off x="3860640" y="5837400"/>
              <a:ext cx="1872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 Sondenkonst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= Off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1341360" y="5548320"/>
            <a:ext cx="2300400" cy="992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41360" y="5548320"/>
                      <a:ext cx="230040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F021-CF04-4A6C-9FA4-DDB73F7F1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8:00:38Z</dcterms:created>
  <dc:creator> </dc:creator>
  <dc:description/>
  <dc:language>en-US</dc:language>
  <cp:lastModifiedBy>urauch</cp:lastModifiedBy>
  <dcterms:modified xsi:type="dcterms:W3CDTF">2009-11-05T01:10:50Z</dcterms:modified>
  <cp:revision>1055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8603011</vt:r8>
  </property>
  <property fmtid="{D5CDD505-2E9C-101B-9397-08002B2CF9AE}" pid="3" name="_AuthorEmail">
    <vt:lpwstr>U.Rauch@gsi.de</vt:lpwstr>
  </property>
  <property fmtid="{D5CDD505-2E9C-101B-9397-08002B2CF9AE}" pid="4" name="_AuthorEmailDisplayName">
    <vt:lpwstr>Springer, Udo</vt:lpwstr>
  </property>
  <property fmtid="{D5CDD505-2E9C-101B-9397-08002B2CF9AE}" pid="5" name="_EmailSubject">
    <vt:lpwstr>Seminarvortrag</vt:lpwstr>
  </property>
</Properties>
</file>